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7818-A827-47A6-94ED-C65761BA0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7C9C-4968-41AC-A2D4-6B4CA0C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00D0-BE1D-46DB-A6D9-EA3AB2F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04FF-F640-40A5-968F-CA34AC0CA6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F4C3-D149-4FA2-99CD-9E9DE3F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CF60-8535-45A9-A71D-9D11A7B6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DBA2-A4EC-4774-8851-03E8959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9C6D-19DA-4176-BE11-53C9A61D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ABFF-8A47-4808-BBF6-98D025A6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756B-3D82-4A78-A0A1-7DE1B1A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ABE4-B6FB-434C-BC57-D4D0116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EE53-F0F1-4030-A58A-F358BFA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7137-D48F-4388-927C-CCB41A782D3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May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Business Operations Support 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93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28640"/>
            <a:ext cx="2160360" cy="54000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852640"/>
            <a:ext cx="11509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2852640"/>
            <a:ext cx="11527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rategy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285120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DA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act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287E-95F2-4CEF-BACF-162C178AA72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15T09:37:50Z</dcterms:modified>
  <cp:revision>62</cp:revision>
  <dc:subject/>
  <dc:title>PHE R&amp;D</dc:title>
</cp:coreProperties>
</file>